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89707-E1BD-4447-BC26-3149790A97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838E4-BAC0-45B8-93F3-D21262237CFA}" type="slidenum">
              <a:rPr b="0" lang="en-US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42F9-3C1D-456E-94E5-C5CF50216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3850-D087-408F-8B7F-C4EF77B47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3800-A216-4DC6-B550-6FA47EB4F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FEC6-39B3-4119-81C5-A34108E59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1BC77-52F8-4921-BF1A-13D51C30C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55E86-E100-47CA-A78F-7A500EC0F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E0120-860B-4FE3-BAE0-A6E9BDFE5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C037D-DFCA-44D9-AC86-989A7B045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8FA54-E3F1-4517-96BD-AC4731921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EACA7-F988-4621-B31A-FD5AC997A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C8D4D-FAA5-4054-825B-34DC673F4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E134-44A8-41C7-B0C5-9304A435B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0EDB8-370F-4FC7-808B-09952BD36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C6D5E-46D4-4D9D-9FD3-687B006BE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C7A45-C474-4228-9E75-B3127C3F9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7D329-9F32-4C80-AB7A-364077413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B8EDF-4BDD-41BE-8EC2-09AD42A7B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66E6-4130-46A1-8609-36D763B7F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952A-C725-4B32-8298-D26954DB2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F28F-DAA1-4E0F-A626-104A33B98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9810-F582-42F6-B16E-84B9EB638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6717-564C-4781-8AA3-622E06416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9B42-37F1-427A-AA9A-F656B212F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A64F-D98C-4EBB-9A58-6E59D2D67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3080" y="765720"/>
                <a:ext cx="515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880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91320" cy="118296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64415-28F6-4E8F-8FD7-37EE2C42D5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2010960" y="245520"/>
            <a:ext cx="6896160" cy="5452200"/>
            <a:chOff x="2010960" y="245520"/>
            <a:chExt cx="6896160" cy="5452200"/>
          </a:xfrm>
        </p:grpSpPr>
        <p:grpSp>
          <p:nvGrpSpPr>
            <p:cNvPr id="177" name="Group 3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Oval 4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79" name="Oval 5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2010960" y="245520"/>
              <a:ext cx="6896160" cy="5452200"/>
              <a:chOff x="2010960" y="245520"/>
              <a:chExt cx="6896160" cy="5452200"/>
            </a:xfrm>
          </p:grpSpPr>
          <p:grpSp>
            <p:nvGrpSpPr>
              <p:cNvPr id="181" name="Group 7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4" name="Oval 10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5" name="Group 11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Group 12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Freeform 13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88" name="Freeform 14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89" name="Group 15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Freeform 16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1" name="Freeform 17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2" name="Group 18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Freeform 19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4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5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7" name="Freeform 23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8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0" name="Freeform 26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1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Freeform 28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3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4" name="Group 30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6" name="Freeform 32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7" name="Group 33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Freeform 34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9" name="Freeform 35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0" name="Group 36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Freeform 37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2" name="Freeform 38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3" name="Group 39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5" name="Freeform 41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6" name="Group 42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8" name="Freeform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9" name="Group 45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Freeform 46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1" name="Freeform 47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2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4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5" name="Group 51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7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8" name="Group 54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Freeform 55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0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1" name="Group 57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3" name="Freeform 59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4" name="Group 60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6" name="Freeform 62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7" name="Group 63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Freeform 64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9" name="Freeform 65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0" name="Group 66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Freeform 67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2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3" name="Group 69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5" name="Freeform 71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6" name="Group 72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Freeform 73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8" name="Freeform 74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249" name="Freeform 75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0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grpSp>
                <p:nvGrpSpPr>
                  <p:cNvPr id="251" name="Group 77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Freeform 78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3" name="Freeform 79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4" name="Group 80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Freeform 81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6" name="Freeform 82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7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Freeform 84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9" name="Freeform 85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0" name="Group 86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Freeform 87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2" name="Freeform 88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3" name="Group 89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Freeform 90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5" name="Freeform 91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6" name="Group 92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Freeform 93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8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9" name="Group 95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Freeform 96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1" name="Freeform 97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2" name="Group 98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Freeform 99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4" name="Freeform 100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5" name="Group 101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Freeform 102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7" name="Freeform 103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8" name="Group 104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Freeform 105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0" name="Freeform 106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81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3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</p:grpSp>
          </p:grpSp>
          <p:grpSp>
            <p:nvGrpSpPr>
              <p:cNvPr id="284" name="Group 110"/>
              <p:cNvGrpSpPr/>
              <p:nvPr/>
            </p:nvGrpSpPr>
            <p:grpSpPr>
              <a:xfrm>
                <a:off x="2175480" y="682560"/>
                <a:ext cx="6731640" cy="4521240"/>
                <a:chOff x="2175480" y="682560"/>
                <a:chExt cx="6731640" cy="4521240"/>
              </a:xfrm>
            </p:grpSpPr>
            <p:grpSp>
              <p:nvGrpSpPr>
                <p:cNvPr id="285" name="Group 111"/>
                <p:cNvGrpSpPr/>
                <p:nvPr/>
              </p:nvGrpSpPr>
              <p:grpSpPr>
                <a:xfrm>
                  <a:off x="2175480" y="682560"/>
                  <a:ext cx="6731640" cy="4521240"/>
                  <a:chOff x="2175480" y="682560"/>
                  <a:chExt cx="6731640" cy="4521240"/>
                </a:xfrm>
              </p:grpSpPr>
              <p:sp>
                <p:nvSpPr>
                  <p:cNvPr id="286" name="Arc 112"/>
                  <p:cNvSpPr/>
                  <p:nvPr/>
                </p:nvSpPr>
                <p:spPr>
                  <a:xfrm flipV="1">
                    <a:off x="5741640" y="857880"/>
                    <a:ext cx="3165480" cy="25225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7" name="Arc 113"/>
                  <p:cNvSpPr/>
                  <p:nvPr/>
                </p:nvSpPr>
                <p:spPr>
                  <a:xfrm flipH="1">
                    <a:off x="2561760" y="2270520"/>
                    <a:ext cx="24858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8" name="Arc 114"/>
                  <p:cNvSpPr/>
                  <p:nvPr/>
                </p:nvSpPr>
                <p:spPr>
                  <a:xfrm>
                    <a:off x="5819400" y="1752840"/>
                    <a:ext cx="175824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9" name="Arc 115"/>
                  <p:cNvSpPr/>
                  <p:nvPr/>
                </p:nvSpPr>
                <p:spPr>
                  <a:xfrm flipH="1">
                    <a:off x="2175480" y="1298880"/>
                    <a:ext cx="31320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0" name="Arc 116"/>
                  <p:cNvSpPr/>
                  <p:nvPr/>
                </p:nvSpPr>
                <p:spPr>
                  <a:xfrm flipH="1">
                    <a:off x="3058560" y="682560"/>
                    <a:ext cx="22809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1" name="Arc 117"/>
                  <p:cNvSpPr/>
                  <p:nvPr/>
                </p:nvSpPr>
                <p:spPr>
                  <a:xfrm>
                    <a:off x="5491080" y="1875960"/>
                    <a:ext cx="9417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2" name="Freeform 118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293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294" name="Group 120"/>
            <p:cNvGrpSpPr/>
            <p:nvPr/>
          </p:nvGrpSpPr>
          <p:grpSpPr>
            <a:xfrm>
              <a:off x="2342880" y="712800"/>
              <a:ext cx="6410160" cy="4708080"/>
              <a:chOff x="2342880" y="712800"/>
              <a:chExt cx="6410160" cy="4708080"/>
            </a:xfrm>
          </p:grpSpPr>
          <p:sp>
            <p:nvSpPr>
              <p:cNvPr id="295" name="Freeform 121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6" name="Arc 122"/>
              <p:cNvSpPr/>
              <p:nvPr/>
            </p:nvSpPr>
            <p:spPr>
              <a:xfrm flipH="1">
                <a:off x="3384000" y="2579760"/>
                <a:ext cx="2616480" cy="28411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7" name="Arc 123"/>
              <p:cNvSpPr/>
              <p:nvPr/>
            </p:nvSpPr>
            <p:spPr>
              <a:xfrm flipH="1">
                <a:off x="3645360" y="2122200"/>
                <a:ext cx="1533600" cy="293400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8" name="Arc 124"/>
              <p:cNvSpPr/>
              <p:nvPr/>
            </p:nvSpPr>
            <p:spPr>
              <a:xfrm flipH="1">
                <a:off x="2342520" y="1737720"/>
                <a:ext cx="2930040" cy="293364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9" name="Arc 125"/>
              <p:cNvSpPr/>
              <p:nvPr/>
            </p:nvSpPr>
            <p:spPr>
              <a:xfrm>
                <a:off x="5586480" y="2150640"/>
                <a:ext cx="46980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0" name="Arc 126"/>
              <p:cNvSpPr/>
              <p:nvPr/>
            </p:nvSpPr>
            <p:spPr>
              <a:xfrm>
                <a:off x="5709960" y="2136960"/>
                <a:ext cx="123768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1" name="Freeform 127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2" name="Freeform 128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3" name="Freeform 129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4" name="Freeform 130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5" name="Freeform 131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6" name="Freeform 132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7" name="Freeform 133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8" name="Freeform 134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FD267-70E2-4133-84BA-8700A106F3B9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hapter 7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hemical Reaction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ombustion Exampl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  <a:ea typeface="Arial"/>
              </a:rPr>
              <a:t>Complete combustion of propane (C</a:t>
            </a:r>
            <a:r>
              <a:rPr b="0" lang="en-US" sz="2400" spc="-1" strike="noStrike" baseline="-25000">
                <a:solidFill>
                  <a:srgbClr val="ffcc00"/>
                </a:solidFill>
                <a:latin typeface="Arial"/>
                <a:ea typeface="Arial"/>
              </a:rPr>
              <a:t>3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  <a:ea typeface="Arial"/>
              </a:rPr>
              <a:t>H</a:t>
            </a:r>
            <a:r>
              <a:rPr b="0" lang="en-US" sz="2400" spc="-1" strike="noStrike" baseline="-25000">
                <a:solidFill>
                  <a:srgbClr val="ffcc00"/>
                </a:solidFill>
                <a:latin typeface="Arial"/>
                <a:ea typeface="Arial"/>
              </a:rPr>
              <a:t>8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  <a:ea typeface="Arial"/>
              </a:rPr>
              <a:t>Combustion of aluminum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93" name="Picture 5" descr="twenty pound propane tank"/>
          <p:cNvPicPr/>
          <p:nvPr/>
        </p:nvPicPr>
        <p:blipFill>
          <a:blip r:embed="rId1"/>
          <a:stretch/>
        </p:blipFill>
        <p:spPr>
          <a:xfrm>
            <a:off x="6705720" y="2590920"/>
            <a:ext cx="1904760" cy="29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ynthesis (or Combination)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  <a:ea typeface="Arial"/>
              </a:rPr>
              <a:t>Two or more substances combine to form a “larger” compound. 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00"/>
                </a:solidFill>
                <a:latin typeface="Arial"/>
                <a:ea typeface="Arial"/>
              </a:rPr>
              <a:t>Group 1A &amp; 2A metals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  <a:ea typeface="Arial"/>
              </a:rPr>
              <a:t>- use common charges to predict ionic compound formed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00"/>
                </a:solidFill>
                <a:latin typeface="Arial"/>
                <a:ea typeface="Arial"/>
              </a:rPr>
              <a:t>Transition metals or 2 nonmetals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  <a:ea typeface="Arial"/>
              </a:rPr>
              <a:t>- many products are possibl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ynthesis Exampl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ynthesis of barium chlorid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ombination of copper and sulfur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98" name="Picture 5" descr="06608Barium_Chloride"/>
          <p:cNvPicPr/>
          <p:nvPr/>
        </p:nvPicPr>
        <p:blipFill>
          <a:blip r:embed="rId1"/>
          <a:srcRect l="16294" t="4441" r="16294" b="12451"/>
          <a:stretch/>
        </p:blipFill>
        <p:spPr>
          <a:xfrm>
            <a:off x="6937200" y="2286000"/>
            <a:ext cx="2206800" cy="28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Decompositio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  <a:ea typeface="Arial"/>
              </a:rPr>
              <a:t>More complex molecule breaks down into simpler substance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00"/>
                </a:solidFill>
                <a:latin typeface="Arial"/>
                <a:ea typeface="Arial"/>
              </a:rPr>
              <a:t>Binary compounds-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  <a:ea typeface="Arial"/>
              </a:rPr>
              <a:t>decompose into constituent elemen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00"/>
                </a:solidFill>
                <a:latin typeface="Arial"/>
                <a:ea typeface="Arial"/>
              </a:rPr>
              <a:t>Ternary or more complex compounds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  <a:ea typeface="Arial"/>
              </a:rPr>
              <a:t>- decompose into either constituent elements or into a combination of compound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Decomposition Exampl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  <a:ea typeface="Arial"/>
              </a:rPr>
              <a:t>Decomposition of sulfur trioxide ga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  <a:ea typeface="Arial"/>
              </a:rPr>
              <a:t>Decomposition of ammonium nitrate to produce dinitrogen monoxide and water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03" name="Picture 7" descr="so3_molecule_sm"/>
          <p:cNvPicPr/>
          <p:nvPr/>
        </p:nvPicPr>
        <p:blipFill>
          <a:blip r:embed="rId1"/>
          <a:srcRect l="0" t="0" r="52782" b="0"/>
          <a:stretch/>
        </p:blipFill>
        <p:spPr>
          <a:xfrm>
            <a:off x="990720" y="2575080"/>
            <a:ext cx="12952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Decomposition vs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Dissociatio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51920" y="19810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  <a:ea typeface="Arial"/>
              </a:rPr>
              <a:t>Decomposition- atoms with NEW properties are created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  <a:ea typeface="Arial"/>
              </a:rPr>
              <a:t>Dissociation- ions without new properties are created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07" name="Picture 5" descr="S1098C"/>
          <p:cNvPicPr/>
          <p:nvPr/>
        </p:nvPicPr>
        <p:blipFill>
          <a:blip r:embed="rId1"/>
          <a:stretch/>
        </p:blipFill>
        <p:spPr>
          <a:xfrm>
            <a:off x="533520" y="3733920"/>
            <a:ext cx="3584520" cy="240012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10" descr="3"/>
          <p:cNvPicPr/>
          <p:nvPr/>
        </p:nvPicPr>
        <p:blipFill>
          <a:blip r:embed="rId2"/>
          <a:stretch/>
        </p:blipFill>
        <p:spPr>
          <a:xfrm>
            <a:off x="4952880" y="3733920"/>
            <a:ext cx="3840120" cy="24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ingle Replacemen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  <a:ea typeface="Arial"/>
              </a:rPr>
              <a:t>Possible reaction between an element and an aqueous compound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  <a:ea typeface="Arial"/>
              </a:rPr>
              <a:t>Metals ONLY replace metals and nonmetals ONLY replace nonmetal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  <a:ea typeface="Arial"/>
              </a:rPr>
              <a:t>Activity series used to predict whether replacement will occur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.R. Exampl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  <a:ea typeface="Arial"/>
              </a:rPr>
              <a:t>Lithium is combined with calcium nitrat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  <a:ea typeface="Arial"/>
              </a:rPr>
              <a:t>Silver is placed into a solution of magnesium carbonat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  <a:ea typeface="Arial"/>
              </a:rPr>
              <a:t>Chlorine gas is bubbled through a solution of aluminum bromid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Double Replacemen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76212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  <a:ea typeface="Arial"/>
              </a:rPr>
              <a:t>Possible exchange of partners by two compound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  <a:ea typeface="Arial"/>
              </a:rPr>
              <a:t>Opposites attract- two positive ions WILL NOT combine (two negative ions won’t either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  <a:ea typeface="Arial"/>
              </a:rPr>
              <a:t>Solubility Rules used to predict if double replacement will occur (a precipitate, a gas, or water must be a product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D.R. Exampl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  <a:ea typeface="Arial"/>
              </a:rPr>
              <a:t>Solutions of magnesium nitrate and aluminum phosphate are mixed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  <a:ea typeface="Arial"/>
              </a:rPr>
              <a:t>Solutions of sodium chloride and aluminum nitrate are mixed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Understanding Chemical Reaction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  <a:ea typeface="Arial"/>
              </a:rPr>
              <a:t>A chemical reaction occurs when: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  <a:ea typeface="Arial"/>
              </a:rPr>
              <a:t>A change in energy occur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  <a:ea typeface="Arial"/>
              </a:rPr>
              <a:t>Exothermic –gives off energy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  <a:ea typeface="Arial"/>
              </a:rPr>
              <a:t>Endothermic – absorbs energy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  <a:ea typeface="Arial"/>
              </a:rPr>
              <a:t>The color change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  <a:ea typeface="Arial"/>
              </a:rPr>
              <a:t>A new gas is created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  <a:ea typeface="Arial"/>
              </a:rPr>
              <a:t>A precipitate, gas or water is formed from 2 solution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Net Ionic Equation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162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  <a:ea typeface="Arial"/>
              </a:rPr>
              <a:t>Eliminate spectator ion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  <a:ea typeface="Arial"/>
              </a:rPr>
              <a:t>Solutions of sodium chloride and silver nitrate are mixed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19" name="Picture 5" descr="L13AgCl"/>
          <p:cNvPicPr/>
          <p:nvPr/>
        </p:nvPicPr>
        <p:blipFill>
          <a:blip r:embed="rId1"/>
          <a:stretch/>
        </p:blipFill>
        <p:spPr>
          <a:xfrm>
            <a:off x="762120" y="3352680"/>
            <a:ext cx="7391160" cy="29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Double Replacement to Form Water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  <a:ea typeface="Arial"/>
              </a:rPr>
              <a:t>Acids and bases react in a double replacement reaction and produce water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  <a:ea typeface="Arial"/>
              </a:rPr>
              <a:t>Acid- produces H</a:t>
            </a:r>
            <a:r>
              <a:rPr b="0" lang="en-US" sz="2400" spc="-1" strike="noStrike" baseline="30000">
                <a:solidFill>
                  <a:srgbClr val="ffcc00"/>
                </a:solidFill>
                <a:latin typeface="Arial"/>
                <a:ea typeface="Arial"/>
              </a:rPr>
              <a:t>+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  <a:ea typeface="Arial"/>
              </a:rPr>
              <a:t> ions, pH &lt; 7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  <a:ea typeface="Arial"/>
              </a:rPr>
              <a:t>Base- produces OH</a:t>
            </a:r>
            <a:r>
              <a:rPr b="0" lang="en-US" sz="2400" spc="-1" strike="noStrike" baseline="30000">
                <a:solidFill>
                  <a:srgbClr val="ffcc00"/>
                </a:solidFill>
                <a:latin typeface="Arial"/>
                <a:ea typeface="Arial"/>
              </a:rPr>
              <a:t>-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  <a:ea typeface="Arial"/>
              </a:rPr>
              <a:t> ions, pH &gt; 7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  <a:ea typeface="Arial"/>
              </a:rPr>
              <a:t>Neutralization- producing neutral water (pH = 7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Neutralization Exampl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  <a:ea typeface="Arial"/>
              </a:rPr>
              <a:t>Hydrochloric acid and sodium hydroxide are mixed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  <a:ea typeface="Arial"/>
              </a:rPr>
              <a:t>Sulfuric acid and calcium hydroxide are mixed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 Black"/>
              </a:rPr>
              <a:t>Parts of a Chemical Equation</a:t>
            </a:r>
            <a:endParaRPr b="0" lang="en-US" sz="3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2" name="AutoShape 6"/>
          <p:cNvSpPr/>
          <p:nvPr/>
        </p:nvSpPr>
        <p:spPr>
          <a:xfrm rot="5400000">
            <a:off x="2971800" y="1066680"/>
            <a:ext cx="457200" cy="3047760"/>
          </a:xfrm>
          <a:custGeom>
            <a:avLst/>
            <a:gdLst>
              <a:gd name="textAreaLeft" fmla="*/ 292320 w 457200"/>
              <a:gd name="textAreaRight" fmla="*/ 457560 w 457200"/>
              <a:gd name="textAreaTop" fmla="*/ 79200 h 3047760"/>
              <a:gd name="textAreaBottom" fmla="*/ 2968560 h 3047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3" name="AutoShape 7"/>
          <p:cNvSpPr/>
          <p:nvPr/>
        </p:nvSpPr>
        <p:spPr>
          <a:xfrm rot="5400000">
            <a:off x="6095520" y="1600200"/>
            <a:ext cx="457200" cy="1981080"/>
          </a:xfrm>
          <a:custGeom>
            <a:avLst/>
            <a:gdLst>
              <a:gd name="textAreaLeft" fmla="*/ 292320 w 457200"/>
              <a:gd name="textAreaRight" fmla="*/ 457560 w 457200"/>
              <a:gd name="textAreaTop" fmla="*/ 51480 h 1981080"/>
              <a:gd name="textAreaBottom" fmla="*/ 1929600 h 19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4" name="Text Box 8"/>
          <p:cNvSpPr/>
          <p:nvPr/>
        </p:nvSpPr>
        <p:spPr>
          <a:xfrm>
            <a:off x="2590920" y="182880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Reactants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5" name="Text Box 9"/>
          <p:cNvSpPr/>
          <p:nvPr/>
        </p:nvSpPr>
        <p:spPr>
          <a:xfrm>
            <a:off x="5867280" y="19051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Product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6" name="Text Box 11"/>
          <p:cNvSpPr/>
          <p:nvPr/>
        </p:nvSpPr>
        <p:spPr>
          <a:xfrm>
            <a:off x="228600" y="39625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Coefficient 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7" name="Object 15"/>
              <p:cNvSpPr txBox="1"/>
              <p:nvPr/>
            </p:nvSpPr>
            <p:spPr>
              <a:xfrm>
                <a:off x="1676520" y="2666880"/>
                <a:ext cx="5715000" cy="88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(</m:t>
                        </m:r>
                        <m:r>
                          <m:t xml:space="preserve">l</m:t>
                        </m:r>
                        <m:r>
                          <m:t xml:space="preserve">)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68" name="Line 17"/>
          <p:cNvSpPr/>
          <p:nvPr/>
        </p:nvSpPr>
        <p:spPr>
          <a:xfrm flipV="1">
            <a:off x="3581280" y="3429000"/>
            <a:ext cx="533520" cy="533520"/>
          </a:xfrm>
          <a:prstGeom prst="line">
            <a:avLst/>
          </a:prstGeom>
          <a:ln w="38160">
            <a:solidFill>
              <a:srgbClr val="af273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9" name="Text Box 18"/>
          <p:cNvSpPr/>
          <p:nvPr/>
        </p:nvSpPr>
        <p:spPr>
          <a:xfrm>
            <a:off x="2971800" y="39625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Subscript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0" name="Line 20"/>
          <p:cNvSpPr/>
          <p:nvPr/>
        </p:nvSpPr>
        <p:spPr>
          <a:xfrm flipV="1">
            <a:off x="6477120" y="3429000"/>
            <a:ext cx="457200" cy="533520"/>
          </a:xfrm>
          <a:prstGeom prst="line">
            <a:avLst/>
          </a:prstGeom>
          <a:ln w="38160">
            <a:solidFill>
              <a:srgbClr val="af273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1" name="Text Box 21"/>
          <p:cNvSpPr/>
          <p:nvPr/>
        </p:nvSpPr>
        <p:spPr>
          <a:xfrm>
            <a:off x="5486400" y="39625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Physical state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2" name="Text Box 22"/>
          <p:cNvSpPr/>
          <p:nvPr/>
        </p:nvSpPr>
        <p:spPr>
          <a:xfrm>
            <a:off x="819000" y="5029200"/>
            <a:ext cx="7467840" cy="105984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</a:rPr>
              <a:t>Symbols-</a:t>
            </a:r>
            <a:r>
              <a:rPr b="0" lang="en-US" sz="1800" spc="-1" strike="noStrike">
                <a:solidFill>
                  <a:srgbClr val="ffcc00"/>
                </a:solidFill>
                <a:latin typeface="Arial"/>
                <a:ea typeface="Arial"/>
              </a:rPr>
              <a:t> used to specify properties of reactants and products or conditions of the reaction (know table 11.1, page 323)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3" name="Line 10"/>
          <p:cNvSpPr/>
          <p:nvPr/>
        </p:nvSpPr>
        <p:spPr>
          <a:xfrm flipV="1">
            <a:off x="914400" y="3276360"/>
            <a:ext cx="838080" cy="685800"/>
          </a:xfrm>
          <a:prstGeom prst="line">
            <a:avLst/>
          </a:prstGeom>
          <a:ln w="38160">
            <a:solidFill>
              <a:srgbClr val="af273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ord Equation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304920" y="2666880"/>
            <a:ext cx="86868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  <a:ea typeface="Arial"/>
              </a:rPr>
              <a:t>CuSO</a:t>
            </a:r>
            <a:r>
              <a:rPr b="0" lang="en-US" sz="3200" spc="-1" strike="noStrike" baseline="-25000">
                <a:solidFill>
                  <a:srgbClr val="ffcc00"/>
                </a:solidFill>
                <a:latin typeface="Arial"/>
                <a:ea typeface="Arial"/>
              </a:rPr>
              <a:t>4(aq) 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  <a:ea typeface="Arial"/>
              </a:rPr>
              <a:t>+ Ag</a:t>
            </a:r>
            <a:r>
              <a:rPr b="0" lang="en-US" sz="3200" spc="-1" strike="noStrike" baseline="-25000">
                <a:solidFill>
                  <a:srgbClr val="ffcc00"/>
                </a:solidFill>
                <a:latin typeface="Arial"/>
                <a:ea typeface="Arial"/>
              </a:rPr>
              <a:t>(s) </a:t>
            </a:r>
            <a:r>
              <a:rPr b="0" lang="en-US" sz="3200" spc="-1" strike="noStrike">
                <a:solidFill>
                  <a:srgbClr val="ffcc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  <a:ea typeface="Arial"/>
              </a:rPr>
              <a:t> Ag</a:t>
            </a:r>
            <a:r>
              <a:rPr b="0" lang="en-US" sz="3200" spc="-1" strike="noStrike" baseline="-25000">
                <a:solidFill>
                  <a:srgbClr val="ffcc00"/>
                </a:solidFill>
                <a:latin typeface="Arial"/>
                <a:ea typeface="Arial"/>
              </a:rPr>
              <a:t>2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  <a:ea typeface="Arial"/>
              </a:rPr>
              <a:t>SO</a:t>
            </a:r>
            <a:r>
              <a:rPr b="0" lang="en-US" sz="3200" spc="-1" strike="noStrike" baseline="-25000">
                <a:solidFill>
                  <a:srgbClr val="ffcc00"/>
                </a:solidFill>
                <a:latin typeface="Arial"/>
                <a:ea typeface="Arial"/>
              </a:rPr>
              <a:t>4(aq)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  <a:ea typeface="Arial"/>
              </a:rPr>
              <a:t> + Cu</a:t>
            </a:r>
            <a:r>
              <a:rPr b="0" lang="en-US" sz="3200" spc="-1" strike="noStrike" baseline="-25000">
                <a:solidFill>
                  <a:srgbClr val="ffcc00"/>
                </a:solidFill>
                <a:latin typeface="Arial"/>
                <a:ea typeface="Arial"/>
              </a:rPr>
              <a:t>(s)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  <a:ea typeface="Arial"/>
              </a:rPr>
              <a:t>“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  <a:ea typeface="Arial"/>
              </a:rPr>
              <a:t>aqueous copper (II) sulfate and solid silver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Arial"/>
                <a:ea typeface="Arial"/>
              </a:rPr>
              <a:t>react to produce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  <a:ea typeface="Arial"/>
              </a:rPr>
              <a:t> aqueous silver sulfate and solid copper.” 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Balancing Equation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  <a:ea typeface="Arial"/>
              </a:rPr>
              <a:t>Why?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Arial"/>
                <a:ea typeface="Arial"/>
              </a:rPr>
              <a:t>Law of Conservation of Mass (LCM)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  <a:ea typeface="Arial"/>
              </a:rPr>
              <a:t>- mass is neither created nor destroyed in chemical reactions (Antione Lavosier, 1700’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  <a:ea typeface="Arial"/>
              </a:rPr>
              <a:t>Coefficients- added so reactions obey the LCM (DON’T touch subscripts!!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rocedure for Balancing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8080" y="281916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  <a:ea typeface="Arial"/>
              </a:rPr>
              <a:t>Write formulas for reactants and product on respective sides of the equation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  <a:ea typeface="Arial"/>
              </a:rPr>
              <a:t>Perform initial “atom inventory” on each side of the equation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  <a:ea typeface="Arial"/>
              </a:rPr>
              <a:t>Add coefficients to make inventories match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  <a:ea typeface="Arial"/>
              </a:rPr>
              <a:t>Update and repeat as needed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  <a:ea typeface="Arial"/>
              </a:rPr>
              <a:t>Verify answer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ractic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1" name="Object 3"/>
              <p:cNvSpPr txBox="1"/>
              <p:nvPr/>
            </p:nvSpPr>
            <p:spPr>
              <a:xfrm>
                <a:off x="533520" y="2971800"/>
                <a:ext cx="8305560" cy="64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__</m:t>
                    </m:r>
                    <m:r>
                      <m:rPr>
                        <m:lit/>
                        <m:nor/>
                      </m:rPr>
                      <m:t xml:space="preserve">NaCl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__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gB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__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gC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__</m:t>
                    </m:r>
                    <m:r>
                      <m:rPr>
                        <m:lit/>
                        <m:nor/>
                      </m:rPr>
                      <m:t xml:space="preserve">NaB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2" name="Text Box 6"/>
          <p:cNvSpPr/>
          <p:nvPr/>
        </p:nvSpPr>
        <p:spPr>
          <a:xfrm>
            <a:off x="4114800" y="3941640"/>
            <a:ext cx="8161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a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g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r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Types of Reaction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09480" y="2590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  <a:ea typeface="Arial"/>
              </a:rPr>
              <a:t>Combustion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  <a:ea typeface="Arial"/>
              </a:rPr>
              <a:t>Synthesi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  <a:ea typeface="Arial"/>
              </a:rPr>
              <a:t>Decomposition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  <a:ea typeface="Arial"/>
              </a:rPr>
              <a:t>Single replacemen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  <a:ea typeface="Arial"/>
              </a:rPr>
              <a:t>Double replacemen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ombustio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75960" y="1905120"/>
            <a:ext cx="89154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  <a:ea typeface="Arial"/>
              </a:rPr>
              <a:t>Reaction with oxygen that releases energy (heat or light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00"/>
                </a:solidFill>
                <a:latin typeface="Arial"/>
                <a:ea typeface="Arial"/>
              </a:rPr>
              <a:t>Hydrocarbons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  <a:ea typeface="Arial"/>
              </a:rPr>
              <a:t> (contain only C and H)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Arial"/>
                <a:ea typeface="Arial"/>
              </a:rPr>
              <a:t>Complete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  <a:ea typeface="Arial"/>
              </a:rPr>
              <a:t>combustion always produces CO</a:t>
            </a:r>
            <a:r>
              <a:rPr b="0" lang="en-US" sz="2400" spc="-1" strike="noStrike" baseline="-25000">
                <a:solidFill>
                  <a:srgbClr val="ffcc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  <a:ea typeface="Arial"/>
              </a:rPr>
              <a:t>(g) and H</a:t>
            </a:r>
            <a:r>
              <a:rPr b="0" lang="en-US" sz="2400" spc="-1" strike="noStrike" baseline="-25000">
                <a:solidFill>
                  <a:srgbClr val="ffcc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  <a:ea typeface="Arial"/>
              </a:rPr>
              <a:t>O(g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00"/>
                </a:solidFill>
                <a:latin typeface="Arial"/>
                <a:ea typeface="Arial"/>
              </a:rPr>
              <a:t>Note: incomplete combustion may result in C(s) or CO(g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7" name="Rectangle 1"/>
          <p:cNvSpPr/>
          <p:nvPr/>
        </p:nvSpPr>
        <p:spPr>
          <a:xfrm>
            <a:off x="-272880" y="5181480"/>
            <a:ext cx="47242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  <a:ea typeface="Arial"/>
              </a:rPr>
              <a:t>Complete Combustion (Bunsen Flame)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cc00"/>
                </a:solidFill>
                <a:latin typeface="Arial"/>
                <a:ea typeface="Arial"/>
              </a:rPr>
              <a:t>CH</a:t>
            </a:r>
            <a:r>
              <a:rPr b="0" lang="en-US" sz="1800" spc="-1" strike="noStrike" baseline="-25000">
                <a:solidFill>
                  <a:srgbClr val="ffcc00"/>
                </a:solidFill>
                <a:latin typeface="Arial"/>
                <a:ea typeface="Arial"/>
              </a:rPr>
              <a:t>4(g) </a:t>
            </a:r>
            <a:r>
              <a:rPr b="0" lang="en-US" sz="1800" spc="-1" strike="noStrike">
                <a:solidFill>
                  <a:srgbClr val="ffcc00"/>
                </a:solidFill>
                <a:latin typeface="Arial"/>
                <a:ea typeface="Arial"/>
              </a:rPr>
              <a:t>+  2O</a:t>
            </a:r>
            <a:r>
              <a:rPr b="0" lang="en-US" sz="1800" spc="-1" strike="noStrike" baseline="-25000">
                <a:solidFill>
                  <a:srgbClr val="ffcc00"/>
                </a:solidFill>
                <a:latin typeface="Arial"/>
                <a:ea typeface="Arial"/>
              </a:rPr>
              <a:t>2(g)</a:t>
            </a:r>
            <a:r>
              <a:rPr b="0" lang="en-US" sz="1800" spc="-1" strike="noStrike">
                <a:solidFill>
                  <a:srgbClr val="ffcc00"/>
                </a:solidFill>
                <a:latin typeface="Arial"/>
                <a:ea typeface="Arial"/>
              </a:rPr>
              <a:t>            CO</a:t>
            </a:r>
            <a:r>
              <a:rPr b="0" lang="en-US" sz="1800" spc="-1" strike="noStrike" baseline="-25000">
                <a:solidFill>
                  <a:srgbClr val="ffcc00"/>
                </a:solidFill>
                <a:latin typeface="Arial"/>
                <a:ea typeface="Arial"/>
              </a:rPr>
              <a:t>2(g) </a:t>
            </a:r>
            <a:r>
              <a:rPr b="0" lang="en-US" sz="1800" spc="-1" strike="noStrike">
                <a:solidFill>
                  <a:srgbClr val="ffcc00"/>
                </a:solidFill>
                <a:latin typeface="Arial"/>
                <a:ea typeface="Arial"/>
              </a:rPr>
              <a:t>+ 2H</a:t>
            </a:r>
            <a:r>
              <a:rPr b="0" lang="en-US" sz="1800" spc="-1" strike="noStrike" baseline="-25000">
                <a:solidFill>
                  <a:srgbClr val="ffcc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ffcc00"/>
                </a:solidFill>
                <a:latin typeface="Arial"/>
                <a:ea typeface="Arial"/>
              </a:rPr>
              <a:t>O</a:t>
            </a:r>
            <a:r>
              <a:rPr b="0" lang="en-US" sz="1800" spc="-1" strike="noStrike" baseline="-25000">
                <a:solidFill>
                  <a:srgbClr val="ffcc00"/>
                </a:solidFill>
                <a:latin typeface="Arial"/>
                <a:ea typeface="Arial"/>
              </a:rPr>
              <a:t>(g)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cxnSp>
        <p:nvCxnSpPr>
          <p:cNvPr id="388" name="Straight Arrow Connector 5"/>
          <p:cNvCxnSpPr/>
          <p:nvPr/>
        </p:nvCxnSpPr>
        <p:spPr>
          <a:xfrm>
            <a:off x="2089080" y="5655960"/>
            <a:ext cx="280080" cy="1080"/>
          </a:xfrm>
          <a:prstGeom prst="straightConnector1">
            <a:avLst/>
          </a:prstGeom>
          <a:ln w="9360">
            <a:solidFill>
              <a:srgbClr val="ffcc00"/>
            </a:solidFill>
            <a:miter/>
            <a:tailEnd len="med" type="arrow" w="med"/>
          </a:ln>
        </p:spPr>
      </p:cxnSp>
      <p:sp>
        <p:nvSpPr>
          <p:cNvPr id="389" name="Rectangle 8"/>
          <p:cNvSpPr/>
          <p:nvPr/>
        </p:nvSpPr>
        <p:spPr>
          <a:xfrm>
            <a:off x="4195800" y="5181480"/>
            <a:ext cx="49356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  <a:ea typeface="Arial"/>
              </a:rPr>
              <a:t>Incomplete Combustion (Luminous Flame)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  <a:ea typeface="Arial"/>
              </a:rPr>
              <a:t>     </a:t>
            </a:r>
            <a:r>
              <a:rPr b="0" lang="en-US" sz="1800" spc="-1" strike="noStrike">
                <a:solidFill>
                  <a:srgbClr val="ffcc00"/>
                </a:solidFill>
                <a:latin typeface="Arial"/>
                <a:ea typeface="Arial"/>
              </a:rPr>
              <a:t>CH</a:t>
            </a:r>
            <a:r>
              <a:rPr b="0" lang="en-US" sz="1800" spc="-1" strike="noStrike" baseline="-25000">
                <a:solidFill>
                  <a:srgbClr val="ffcc00"/>
                </a:solidFill>
                <a:latin typeface="Arial"/>
                <a:ea typeface="Arial"/>
              </a:rPr>
              <a:t>4(g) </a:t>
            </a:r>
            <a:r>
              <a:rPr b="0" lang="en-US" sz="1800" spc="-1" strike="noStrike">
                <a:solidFill>
                  <a:srgbClr val="ffcc00"/>
                </a:solidFill>
                <a:latin typeface="Arial"/>
                <a:ea typeface="Arial"/>
              </a:rPr>
              <a:t>+  O</a:t>
            </a:r>
            <a:r>
              <a:rPr b="0" lang="en-US" sz="1800" spc="-1" strike="noStrike" baseline="-25000">
                <a:solidFill>
                  <a:srgbClr val="ffcc00"/>
                </a:solidFill>
                <a:latin typeface="Arial"/>
                <a:ea typeface="Arial"/>
              </a:rPr>
              <a:t>2(g)</a:t>
            </a:r>
            <a:r>
              <a:rPr b="0" lang="en-US" sz="1800" spc="-1" strike="noStrike">
                <a:solidFill>
                  <a:srgbClr val="ffcc00"/>
                </a:solidFill>
                <a:latin typeface="Arial"/>
                <a:ea typeface="Arial"/>
              </a:rPr>
              <a:t>            C</a:t>
            </a:r>
            <a:r>
              <a:rPr b="0" lang="en-US" sz="1800" spc="-1" strike="noStrike" baseline="-25000">
                <a:solidFill>
                  <a:srgbClr val="ffcc00"/>
                </a:solidFill>
                <a:latin typeface="Arial"/>
                <a:ea typeface="Arial"/>
              </a:rPr>
              <a:t>(g) </a:t>
            </a:r>
            <a:r>
              <a:rPr b="0" lang="en-US" sz="1800" spc="-1" strike="noStrike">
                <a:solidFill>
                  <a:srgbClr val="ffcc00"/>
                </a:solidFill>
                <a:latin typeface="Arial"/>
                <a:ea typeface="Arial"/>
              </a:rPr>
              <a:t>+ 2H</a:t>
            </a:r>
            <a:r>
              <a:rPr b="0" lang="en-US" sz="1800" spc="-1" strike="noStrike" baseline="-25000">
                <a:solidFill>
                  <a:srgbClr val="ffcc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ffcc00"/>
                </a:solidFill>
                <a:latin typeface="Arial"/>
                <a:ea typeface="Arial"/>
              </a:rPr>
              <a:t>O</a:t>
            </a:r>
            <a:r>
              <a:rPr b="0" lang="en-US" sz="1800" spc="-1" strike="noStrike" baseline="-25000">
                <a:solidFill>
                  <a:srgbClr val="ffcc00"/>
                </a:solidFill>
                <a:latin typeface="Arial"/>
                <a:ea typeface="Arial"/>
              </a:rPr>
              <a:t>(g)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cxnSp>
        <p:nvCxnSpPr>
          <p:cNvPr id="390" name="Straight Arrow Connector 10"/>
          <p:cNvCxnSpPr/>
          <p:nvPr/>
        </p:nvCxnSpPr>
        <p:spPr>
          <a:xfrm>
            <a:off x="6479640" y="5655960"/>
            <a:ext cx="280440" cy="1080"/>
          </a:xfrm>
          <a:prstGeom prst="straightConnector1">
            <a:avLst/>
          </a:prstGeom>
          <a:ln w="9360">
            <a:solidFill>
              <a:srgbClr val="ffcc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30T17:18:13Z</dcterms:created>
  <dc:creator>cmichene</dc:creator>
  <dc:description/>
  <dc:language>en-US</dc:language>
  <cp:lastModifiedBy>Dawn</cp:lastModifiedBy>
  <dcterms:modified xsi:type="dcterms:W3CDTF">2013-03-04T01:44:50Z</dcterms:modified>
  <cp:revision>41</cp:revision>
  <dc:subject/>
  <dc:title>Chapter 10</dc:title>
</cp:coreProperties>
</file>